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D5DC-58EB-4B89-AFDB-A1147AC6BE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i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n attractive dish for microb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i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are an attractive dish for microb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thought that food went off because it was in contact with air. They thou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+ food                microorganism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 said that microbes come from microb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did som experiments to prove thi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ople thought that food went off because it was in contact with air. They though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r + food                microorganisms g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 said that microbes come from microb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did som experiments to prove this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uis Past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’s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poured some grape juice in 2 fl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hen produced a ‘swan neck’ in the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eated the flasks to bo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lask was 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d its neck broken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went off?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teur’s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poured some grape juice in 2 fl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then produced a ‘swan neck’ in the g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heated the flasks to boi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lask was le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had its neck broken o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went off?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microorganisms which caus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are used to help people with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killers – relieve the symptoms without curing th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 – chemicals which kill bacteria, but not viruses. Viruses develop in cells and are hard to k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hogen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microorganisms which caus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ugs are used to help people with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inkillers – relieve the symptoms without curing th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s – chemicals which kill bacteria, but not viruses. Viruses develop in cells and are hard to ki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rug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nature are varied. A few have the resistance to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antibiotic is used there is a natural selection for the bacteria with the most drug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urvive and breed and become more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Drug 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nature are varied. A few have the resistance to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antibiotic is used there is a natural selection for the bacteria with the most drug resi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survive and breed and become more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of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olonies growing near disc of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s of different antibiotic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ing for 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r of bacter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colonies growing near disc of antibio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s of different antibiotic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rains of bacteria have resistance to antibiotic due to 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need a range of antibiotics to fight disease with the best one for the 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low down more antibiotic resistance developing in pathogenic bacteria we need to avoid over using 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iotic Resistance in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strains of bacteria have resistance to antibiotic due to natural sel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e need a range of antibiotics to fight disease with the best one for the j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low down more antibiotic resistance developing in pathogenic bacteria we need to avoid over using antibio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0808-8DDE-4D26-9BEE-016256B6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17F0-3A8F-45E8-9541-D52EC4B8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F379-38B3-4EFC-9BB5-40E5F2983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187D-C10B-438E-88E4-16A707A21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FC0B-D3CA-47A9-8350-E26AD5B67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9A70-C87A-4D83-8E58-F35D3AA8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BD22-305B-4C46-8EB9-969951C15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779C-CDFB-4DB2-A0B1-746BC11A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152DB-7380-4751-80D4-CF9E75F48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CDE0-5E0E-4D22-A023-DF72B5D6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A224C-242A-42A1-BC20-937ED4FE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9B38-99B8-48C2-957A-BC5EBFBD8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CC88-1A4C-49BA-A8E7-3ACDA9B7E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B59E0-9D68-45A5-BCC1-D876FCC0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AE17E-BB50-4D33-A05A-58567C71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03E2-47E6-4B04-8143-30EDE232B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84C63-0D3B-45FC-BC25-24F30073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48BA-C8E6-46ED-A9F5-3B98FF64A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1B85-118E-41A9-BDC8-5024E7F6F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A35C-8B27-4146-BB20-2EBA6C2F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908C-7874-484D-AE77-6FE34242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9A74-A407-41D9-BE79-FEE5AF5A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BACD-3FD0-4E89-9C19-75F91232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EB40-424F-4513-9EBA-E6F27841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2B13F-12A8-435B-83FC-BBFC0091F4A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58C9D-C13D-41A9-BDBB-FB47E331ECB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6633"/>
                </a:solidFill>
                <a:latin typeface="Garamond"/>
              </a:rPr>
              <a:t>Controlling Diseas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 are an attractive dish for microb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Louis Pasteu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eople thought that food went off because it was in contact with air. They though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 + food                microorganisms g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Pasteur said that microbes come from microb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He did som experiments to prove this -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Louis Pasteu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Picture 6" descr="300px-Tableau_Louis_Pasteur"/>
          <p:cNvPicPr/>
          <p:nvPr/>
        </p:nvPicPr>
        <p:blipFill>
          <a:blip r:embed="rId1"/>
          <a:stretch/>
        </p:blipFill>
        <p:spPr>
          <a:xfrm>
            <a:off x="2335320" y="1219320"/>
            <a:ext cx="4122720" cy="48765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Pasteur’s Experimen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 poured some grape juice in 2 flas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 then produced a ‘swan neck’ in the g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He heated the flasks to boil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e flask was lef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other had its neck broken of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0066"/>
                </a:solidFill>
                <a:latin typeface="Arial"/>
              </a:rPr>
              <a:t>Which went off? Why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7" descr="1_6"/>
          <p:cNvPicPr/>
          <p:nvPr/>
        </p:nvPicPr>
        <p:blipFill>
          <a:blip r:embed="rId1"/>
          <a:stretch/>
        </p:blipFill>
        <p:spPr>
          <a:xfrm>
            <a:off x="457200" y="1631880"/>
            <a:ext cx="4038480" cy="44672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Pathogens 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6633"/>
                </a:solidFill>
                <a:latin typeface="Arial"/>
              </a:rPr>
              <a:t>= microorganisms which caus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Drugs are used to help people with disea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Arial"/>
              </a:rPr>
              <a:t>Painkiller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– relieve the symptoms without curing th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cc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99"/>
                </a:solidFill>
                <a:latin typeface="Arial"/>
              </a:rPr>
              <a:t>Antibiotics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– chemicals which kill bacteria, but not viruses. Viruses develop in cells and are hard to kil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Bacteria Drug Resistan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14800" y="1599840"/>
            <a:ext cx="4572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Bacteria in nature are varied. A few have the resistance to antibiot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en the antibiotic is used there is a natural selection for the bacteria with the most drug resist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se survive and breed and become more comm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180px-Antibiotic_resistance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990720" y="1447920"/>
            <a:ext cx="2874960" cy="464796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33"/>
                </a:solidFill>
                <a:latin typeface="Garamond"/>
              </a:rPr>
              <a:t>Testing for Antibiotic Resistance in Bacteri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6" name="Picture 6" descr="resist2"/>
          <p:cNvPicPr/>
          <p:nvPr/>
        </p:nvPicPr>
        <p:blipFill>
          <a:blip r:embed="rId1"/>
          <a:stretch/>
        </p:blipFill>
        <p:spPr>
          <a:xfrm>
            <a:off x="914400" y="2058840"/>
            <a:ext cx="7315200" cy="36133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3124080" y="1295280"/>
            <a:ext cx="1447920" cy="6426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lear of bacter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"/>
          <p:cNvSpPr/>
          <p:nvPr/>
        </p:nvSpPr>
        <p:spPr>
          <a:xfrm flipH="1">
            <a:off x="3124080" y="1981080"/>
            <a:ext cx="15264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3200400" y="5867280"/>
            <a:ext cx="2438280" cy="91692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cteria colonies growing near disc of antibio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0"/>
          <p:cNvSpPr/>
          <p:nvPr/>
        </p:nvSpPr>
        <p:spPr>
          <a:xfrm flipV="1">
            <a:off x="5181480" y="4495320"/>
            <a:ext cx="45720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304920" y="5791320"/>
            <a:ext cx="2057400" cy="64260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scs of different antibiotic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 flipV="1">
            <a:off x="1523880" y="4724280"/>
            <a:ext cx="457200" cy="1067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3"/>
          <p:cNvSpPr/>
          <p:nvPr/>
        </p:nvSpPr>
        <p:spPr>
          <a:xfrm flipV="1">
            <a:off x="1523880" y="5028840"/>
            <a:ext cx="114300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33"/>
                </a:solidFill>
                <a:latin typeface="Garamond"/>
              </a:rPr>
              <a:t>Antibiotic Resistance in Bacter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Many strains of bacteria have resistance to antibiotic due to natural sel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So we need a range of antibiotics to fight disease with the best one for the jo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slow down more antibiotic resistance developing in pathogenic bacteria we need to avoid over using antibio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images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5715000" y="4729320"/>
            <a:ext cx="2133720" cy="18097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2</dc:creator>
  <dc:description/>
  <dc:language>en-US</dc:language>
  <cp:lastModifiedBy>LEGION2</cp:lastModifiedBy>
  <dcterms:modified xsi:type="dcterms:W3CDTF">2016-01-14T08:47:1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